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6AD-368E-4175-B7E6-7C99E9FEDA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62B-860A-4DCD-AE62-11AFA736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BCF-9456-4966-AB0B-D6FBEB6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C23-836D-4E34-B39D-CDA41069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962-4F84-402F-A2AF-B3ADAE90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0CA-212E-4029-AF66-720A3410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85D-F76C-47D5-89E2-6D667796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B97-C61B-423D-B99A-9F597F7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12E-EAE2-4934-9C23-C750E781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046-723B-470D-B6D6-CDF2A61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335-A30A-40E6-ADD8-9EEB93A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714-1D23-4DEF-8351-FBFF596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77C-96EB-44E7-AAF4-1B1FF21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4960" y="404640"/>
            <a:ext cx="50468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FrnkGothITC Bk BT"/>
              </a:rPr>
              <a:t>UNIVERSIDAD NACIONAL DEL LITORAL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FrnkGothITC Bk BT"/>
              </a:rPr>
              <a:t>Secretaría de Vinculación Tecnológica y Desarrollo Productivo</a:t>
            </a:r>
            <a:endParaRPr b="1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324000" y="907920"/>
            <a:ext cx="8496000" cy="5689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6" descr="unl-vinculacion1"/>
          <p:cNvPicPr/>
          <p:nvPr/>
        </p:nvPicPr>
        <p:blipFill>
          <a:blip r:embed="rId2"/>
          <a:srcRect l="1346" t="0" r="0" b="816"/>
          <a:stretch/>
        </p:blipFill>
        <p:spPr>
          <a:xfrm>
            <a:off x="8007480" y="333360"/>
            <a:ext cx="571320" cy="9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EC6C-FEC4-428C-8052-C0BE92AD4E5B}" type="slidenum"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1"/>
          <p:cNvSpPr/>
          <p:nvPr/>
        </p:nvSpPr>
        <p:spPr>
          <a:xfrm>
            <a:off x="3635280" y="90792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Franklin Gothic Demi"/>
              </a:rPr>
              <a:t>UNIVERSIDAD NACIONAL DEL LITORAL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571920" y="3214800"/>
            <a:ext cx="50324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FrnkGothITC Bk BT"/>
              </a:rPr>
              <a:t>Presentación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ranklin Gothic Demi"/>
              </a:rPr>
              <a:t>Desafíos y Oportunidades de la vinculación de las universidades con los Parques Industriales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FrnkGothITC Bk BT"/>
              </a:rPr>
              <a:t> </a:t>
            </a:r>
            <a:r>
              <a:rPr b="1" lang="es-ES_tradnl" sz="2400" spc="-1" strike="noStrike">
                <a:solidFill>
                  <a:srgbClr val="4d4d4d"/>
                </a:solidFill>
                <a:latin typeface="Franklin Gothic Demi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3" name="Picture 15" descr="unl-vinculacion1"/>
          <p:cNvPicPr/>
          <p:nvPr/>
        </p:nvPicPr>
        <p:blipFill>
          <a:blip r:embed="rId1"/>
          <a:stretch/>
        </p:blipFill>
        <p:spPr>
          <a:xfrm>
            <a:off x="574560" y="257040"/>
            <a:ext cx="720720" cy="1190880"/>
          </a:xfrm>
          <a:prstGeom prst="rect">
            <a:avLst/>
          </a:prstGeom>
          <a:ln w="0">
            <a:noFill/>
          </a:ln>
        </p:spPr>
      </p:pic>
      <p:sp>
        <p:nvSpPr>
          <p:cNvPr id="54" name="5 CuadroTexto"/>
          <p:cNvSpPr/>
          <p:nvPr/>
        </p:nvSpPr>
        <p:spPr>
          <a:xfrm>
            <a:off x="1619280" y="1557360"/>
            <a:ext cx="7000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IX Reunión Plenaria RedVITEC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Las Universidades y su relación co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los Entornos Productivos Regionales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6 Rectángulo"/>
          <p:cNvSpPr/>
          <p:nvPr/>
        </p:nvSpPr>
        <p:spPr>
          <a:xfrm>
            <a:off x="1692360" y="59500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Franklin Gothic Book"/>
              </a:rPr>
              <a:t>Santiago del Estero, 29 y 30 de Mayo de 2008</a:t>
            </a:r>
            <a:r>
              <a:rPr b="1" lang="es-ES_tradnl" sz="1800" spc="-1" strike="noStrike">
                <a:solidFill>
                  <a:srgbClr val="4d4d4d"/>
                </a:solidFill>
                <a:latin typeface="Franklin Gothic Book"/>
              </a:rPr>
              <a:t>.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Franklin Gothic Book"/>
              </a:rPr>
              <a:t>Convenio</a:t>
            </a:r>
            <a:r>
              <a:rPr b="0" lang="es-AR" sz="1000" spc="-1" strike="noStrike">
                <a:solidFill>
                  <a:srgbClr val="ffffff"/>
                </a:solidFill>
                <a:latin typeface="Franklin Gothic Book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Prefactibilidad de implantación de un Área Industrial en el distrito de Santo Tomé - Prov. de Santa F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Universidad Nacional del Litoral y la Municipalidad de Santo Tom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Objetivos del estudio, Segunda Fase (2004-2005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Franklin Gothic Book"/>
              </a:rPr>
              <a:t>Actualizar la propuesta original, tanto en sus y límites, como en nuevos tipos de zonificaciones internas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Realizar en forma expeditiva un análisis de viabilidad ambiental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Analizar el estado de usos del suelo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Analizar los cambios desarrollados en infraestructura tanto a nivel urbana, como regional (drenajes urbanos, extensión de la red  de agua potable, cambio de fuente de agua potable, puente Santa Fe Santo Tomé, etc) 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Costear la infraestructura necesaria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Analizar la viabilidad del desarrollo de una estructura técnica de incubación externada de empresas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Determinar superficies aprovechables, y costos emergentes para los usuarios sobre la base de diversos escenarios de recupero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Franklin Gothic Book"/>
              </a:rPr>
              <a:t>Identificar actores potencialmente interesados en asociarse o cooperar con dicho desarrollo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Franklin Gothic Book"/>
              </a:rPr>
              <a:t>Identificar fuentes de financiamiento potenciales (tanto bajo la modalidad de “con” como “sin” reintegro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yecto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Áreas y Parques Industriales con servicios tecnológicos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CFI - Consejo Federal de Inversion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Gobierno de la Provincia de Entre Río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2003 – 200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Proveer a los organismos responsables de áreas y parques industriales de capacidades para sumar servicios tecnológicos dentro de su gestión para adquirir, de este modo, ventajas competitivas para las empresas allí radicadas y eventualmente a las de sus zonas de influencia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tivo específic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Formación de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Nodos Locales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, adecuadamente capacitados para detectar en forma permanente las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Franklin Gothic Book"/>
              </a:rPr>
              <a:t>Demandas Tecnológicas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(DT),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y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Franklin Gothic Book"/>
              </a:rPr>
              <a:t>Necesidades de Investigación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(NI)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a ser canalizadas al sistema de Ciencia y Tecnología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Áreas y Parques Industriales con servicios tecnológicos”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CFI - Consejo Federal de Inversion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Gobierno de la Provincia de Entre Río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2003 – 200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“Gral. Belgrano” de Paraná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Gualeguaychú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epción del Urugua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ord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Area Industrial de Rosario del Tal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Incubadora de Empresas de María Grand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1419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87440" y="1773360"/>
            <a:ext cx="6618240" cy="4477680"/>
            <a:chOff x="1387440" y="1773360"/>
            <a:chExt cx="6618240" cy="4477680"/>
          </a:xfrm>
        </p:grpSpPr>
        <p:grpSp>
          <p:nvGrpSpPr>
            <p:cNvPr id="96" name=""/>
            <p:cNvGrpSpPr/>
            <p:nvPr/>
          </p:nvGrpSpPr>
          <p:grpSpPr>
            <a:xfrm>
              <a:off x="3691080" y="1773360"/>
              <a:ext cx="1793880" cy="971640"/>
              <a:chOff x="3691080" y="1773360"/>
              <a:chExt cx="1793880" cy="971640"/>
            </a:xfrm>
          </p:grpSpPr>
          <p:sp>
            <p:nvSpPr>
              <p:cNvPr id="97" name=""/>
              <p:cNvSpPr/>
              <p:nvPr/>
            </p:nvSpPr>
            <p:spPr>
              <a:xfrm>
                <a:off x="3691080" y="177336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68840" y="1922760"/>
                <a:ext cx="16398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Financier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V="1">
              <a:off x="2611440" y="2494080"/>
              <a:ext cx="1224000" cy="1008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5419800" y="2494080"/>
              <a:ext cx="1224000" cy="1008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4160" y="4023000"/>
              <a:ext cx="29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387440" y="3502080"/>
              <a:ext cx="1793880" cy="971640"/>
              <a:chOff x="1387440" y="3502080"/>
              <a:chExt cx="1793880" cy="97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1387440" y="350208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63400" y="3651480"/>
                <a:ext cx="164016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Productiv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691080" y="4942080"/>
              <a:ext cx="2000160" cy="975240"/>
              <a:chOff x="3691080" y="4942080"/>
              <a:chExt cx="2000160" cy="975240"/>
            </a:xfrm>
          </p:grpSpPr>
          <p:sp>
            <p:nvSpPr>
              <p:cNvPr id="106" name=""/>
              <p:cNvSpPr/>
              <p:nvPr/>
            </p:nvSpPr>
            <p:spPr>
              <a:xfrm>
                <a:off x="3794400" y="494352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91080" y="4942080"/>
                <a:ext cx="2000160" cy="9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Tecnológico y Serv.Avanz.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211800" y="3502080"/>
              <a:ext cx="1793880" cy="971640"/>
              <a:chOff x="6211800" y="3502080"/>
              <a:chExt cx="1793880" cy="971640"/>
            </a:xfrm>
          </p:grpSpPr>
          <p:sp>
            <p:nvSpPr>
              <p:cNvPr id="109" name=""/>
              <p:cNvSpPr/>
              <p:nvPr/>
            </p:nvSpPr>
            <p:spPr>
              <a:xfrm>
                <a:off x="6211800" y="350208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89560" y="3651480"/>
                <a:ext cx="16398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Científic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V="1">
              <a:off x="5491080" y="4365360"/>
              <a:ext cx="1152720" cy="86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827440" y="4438440"/>
              <a:ext cx="1079280" cy="93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14720" y="206244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5760" y="3032280"/>
              <a:ext cx="0" cy="198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61000">
              <a:off x="1909800" y="4104720"/>
              <a:ext cx="797040" cy="6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1"/>
                  </a:moveTo>
                  <a:arcTo wR="10800" hR="10800" stAng="-12338" swAng="10099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1"/>
                  </a:moveTo>
                  <a:arcTo wR="10800" hR="10800" stAng="-12338" swAng="10099843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61000">
              <a:off x="4352400" y="2469240"/>
              <a:ext cx="686880" cy="51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1"/>
                  </a:moveTo>
                  <a:arcTo wR="10800" hR="10800" stAng="-12338" swAng="12007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1"/>
                  </a:moveTo>
                  <a:arcTo wR="10800" hR="10800" stAng="-12338" swAng="12007069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61000">
              <a:off x="6721920" y="4279320"/>
              <a:ext cx="82368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5" y="4144"/>
                  </a:moveTo>
                  <a:arcTo wR="10800" hR="10800" stAng="-2282632" swAng="142773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5" y="4144"/>
                  </a:moveTo>
                  <a:arcTo wR="10800" hR="10800" stAng="-2282632" swAng="14277363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61000">
              <a:off x="4287240" y="5563800"/>
              <a:ext cx="692640" cy="63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1"/>
                  </a:moveTo>
                  <a:arcTo wR="10800" hR="10800" stAng="-12338" swAng="1019260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1"/>
                  </a:moveTo>
                  <a:arcTo wR="10800" hR="10800" stAng="-12338" swAng="10192601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2360" y="271008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206244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5440" y="3502080"/>
              <a:ext cx="47340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3080" y="422280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70720" y="472608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07080" y="544680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35440" y="479772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59080" y="414972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9080" y="350208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6720" y="320220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00000" y="1557360"/>
            <a:ext cx="7470720" cy="4968720"/>
          </a:xfrm>
          <a:prstGeom prst="rect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87280" cy="3065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STITUCION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8440" y="3070080"/>
            <a:ext cx="304920" cy="225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27440" y="1413000"/>
            <a:ext cx="2438280" cy="322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 A R C O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981000"/>
            <a:ext cx="7139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Franklin Gothic Demi"/>
              </a:rPr>
              <a:t>Sistema Nacional de Innovación - SNI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19520" y="1419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91080" y="1773360"/>
            <a:ext cx="1793880" cy="971280"/>
            <a:chOff x="3691080" y="1773360"/>
            <a:chExt cx="1793880" cy="971280"/>
          </a:xfrm>
        </p:grpSpPr>
        <p:sp>
          <p:nvSpPr>
            <p:cNvPr id="136" name=""/>
            <p:cNvSpPr/>
            <p:nvPr/>
          </p:nvSpPr>
          <p:spPr>
            <a:xfrm>
              <a:off x="3691080" y="1773360"/>
              <a:ext cx="1793880" cy="9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8840" y="1922400"/>
              <a:ext cx="16398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Financier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611440" y="2494080"/>
            <a:ext cx="1224000" cy="1008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9800" y="2494080"/>
            <a:ext cx="1224000" cy="1008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24160" y="4022640"/>
            <a:ext cx="2971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87440" y="3502080"/>
            <a:ext cx="1793880" cy="971640"/>
            <a:chOff x="1387440" y="3502080"/>
            <a:chExt cx="1793880" cy="971640"/>
          </a:xfrm>
        </p:grpSpPr>
        <p:sp>
          <p:nvSpPr>
            <p:cNvPr id="142" name=""/>
            <p:cNvSpPr/>
            <p:nvPr/>
          </p:nvSpPr>
          <p:spPr>
            <a:xfrm>
              <a:off x="138744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63400" y="3651480"/>
              <a:ext cx="16401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Productiv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91080" y="4941720"/>
            <a:ext cx="2000160" cy="975240"/>
            <a:chOff x="3691080" y="4941720"/>
            <a:chExt cx="2000160" cy="975240"/>
          </a:xfrm>
        </p:grpSpPr>
        <p:sp>
          <p:nvSpPr>
            <p:cNvPr id="145" name=""/>
            <p:cNvSpPr/>
            <p:nvPr/>
          </p:nvSpPr>
          <p:spPr>
            <a:xfrm>
              <a:off x="3794400" y="494316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1080" y="4941720"/>
              <a:ext cx="200016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Tecnológico y Serv.Avanz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11800" y="3502080"/>
            <a:ext cx="1793880" cy="971640"/>
            <a:chOff x="6211800" y="3502080"/>
            <a:chExt cx="1793880" cy="971640"/>
          </a:xfrm>
        </p:grpSpPr>
        <p:sp>
          <p:nvSpPr>
            <p:cNvPr id="148" name=""/>
            <p:cNvSpPr/>
            <p:nvPr/>
          </p:nvSpPr>
          <p:spPr>
            <a:xfrm>
              <a:off x="621180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89560" y="3651480"/>
              <a:ext cx="16398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Científic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491080" y="4365360"/>
            <a:ext cx="1152720" cy="865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27440" y="4438440"/>
            <a:ext cx="1079280" cy="9349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5760" y="3032280"/>
            <a:ext cx="0" cy="1981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61000">
            <a:off x="1909800" y="4104720"/>
            <a:ext cx="797040" cy="67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38" swAng="10099843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38" swAng="10099843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61000">
            <a:off x="4352760" y="2469600"/>
            <a:ext cx="686880" cy="51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38" swAng="12007069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38" swAng="12007069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61000">
            <a:off x="6721920" y="4279320"/>
            <a:ext cx="823680" cy="45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05" y="4144"/>
                </a:moveTo>
                <a:arcTo wR="10800" hR="10800" stAng="-2282632" swAng="14277363"/>
                <a:lnTo>
                  <a:pt x="10800" y="10800"/>
                </a:lnTo>
                <a:close/>
              </a:path>
              <a:path fill="none" w="21600" h="21600">
                <a:moveTo>
                  <a:pt x="19305" y="4144"/>
                </a:moveTo>
                <a:arcTo wR="10800" hR="10800" stAng="-2282632" swAng="14277363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61000">
            <a:off x="4287240" y="5563080"/>
            <a:ext cx="692640" cy="63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38" swAng="10192601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38" swAng="10192601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5800" y="3502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3080" y="422280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0720" y="4726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07080" y="544680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9080" y="414972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557360"/>
            <a:ext cx="7470720" cy="4968720"/>
          </a:xfrm>
          <a:prstGeom prst="rect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05000"/>
            <a:ext cx="287280" cy="3065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STITUCION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18440" y="3070080"/>
            <a:ext cx="304920" cy="225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7440" y="1413000"/>
            <a:ext cx="2438280" cy="322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 A R C O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981000"/>
            <a:ext cx="7139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Franklin Gothic Demi"/>
              </a:rPr>
              <a:t>Sistema Nacional de Innovación - SNI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19520" y="1419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24160" y="4022640"/>
            <a:ext cx="2971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387440" y="3502080"/>
            <a:ext cx="1793880" cy="971640"/>
            <a:chOff x="1387440" y="3502080"/>
            <a:chExt cx="1793880" cy="971640"/>
          </a:xfrm>
        </p:grpSpPr>
        <p:sp>
          <p:nvSpPr>
            <p:cNvPr id="170" name=""/>
            <p:cNvSpPr/>
            <p:nvPr/>
          </p:nvSpPr>
          <p:spPr>
            <a:xfrm>
              <a:off x="138744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63400" y="3651480"/>
              <a:ext cx="16401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Parque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Industrial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11800" y="3502080"/>
            <a:ext cx="1793880" cy="971640"/>
            <a:chOff x="6211800" y="3502080"/>
            <a:chExt cx="1793880" cy="971640"/>
          </a:xfrm>
        </p:grpSpPr>
        <p:sp>
          <p:nvSpPr>
            <p:cNvPr id="173" name=""/>
            <p:cNvSpPr/>
            <p:nvPr/>
          </p:nvSpPr>
          <p:spPr>
            <a:xfrm>
              <a:off x="621180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89560" y="3651480"/>
              <a:ext cx="16398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Científic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rot="561000">
            <a:off x="6721920" y="4279320"/>
            <a:ext cx="823680" cy="45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05" y="4144"/>
                </a:moveTo>
                <a:arcTo wR="10800" hR="10800" stAng="-2282632" swAng="14277363"/>
                <a:lnTo>
                  <a:pt x="10800" y="10800"/>
                </a:lnTo>
                <a:close/>
              </a:path>
              <a:path fill="none" w="21600" h="21600">
                <a:moveTo>
                  <a:pt x="19305" y="4144"/>
                </a:moveTo>
                <a:arcTo wR="10800" hR="10800" stAng="-2282632" swAng="14277363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5800" y="3502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23080" y="422280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0720" y="4726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9080" y="414972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557360"/>
            <a:ext cx="7470720" cy="4968720"/>
          </a:xfrm>
          <a:prstGeom prst="rect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2205000"/>
            <a:ext cx="287280" cy="3065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STITUCION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18440" y="3070080"/>
            <a:ext cx="304920" cy="225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27440" y="1413000"/>
            <a:ext cx="2438280" cy="322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 A R C O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981000"/>
            <a:ext cx="7139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Franklin Gothic Demi"/>
              </a:rPr>
              <a:t>Sistema Nacional de Innovación - SNI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Franklin Gothic Book"/>
              </a:rPr>
              <a:t>Servicios iniciales a incorpora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Identificación de Demandas de Tecnología y de Necesidades de Investigació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Manejo de oferta tecnológica regional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Manejo de oferta de financiamiento de la innovació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Capacidad de formulación de proyect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Simplificación del acceso al financiamien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Apoyo al proceso de internacionalizació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Organización de la cooperación interterritorial entre empresa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Instalación de nuevas empresas en incubadora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Formación empresaria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Apoyo a las demandas del mismo par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Capacidades de trabajo conjunto a distanci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4365720"/>
            <a:ext cx="4248360" cy="358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Áreas y Parques Industriales con servicios tecnológicos”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CFI - Consejo Federal de Inversion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Gobierno de la Provincia de Entre Río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2003 – 200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“Gral. Belgrano” de Paraná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Gualeguaychú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epción del Urugua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ord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Area Industrial de Rosario del Tal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Incubadora de Empresas de María Grand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2209680"/>
            <a:ext cx="72676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Franklin Gothic Demi"/>
              </a:rPr>
              <a:t>Muchas gracias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Book"/>
              </a:rPr>
              <a:t>Ing. Daniel Scacchi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Book"/>
              </a:rPr>
              <a:t>Director CETRI Litor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Centro para la Transferencia de los 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Resultados de la Investigación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Demi"/>
              </a:rPr>
              <a:t>cetri@unl.edu.ar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4960" y="404640"/>
            <a:ext cx="50468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FrnkGothITC Bk BT"/>
              </a:rPr>
              <a:t>UNIVERSIDAD NACIONAL DEL LITORAL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FrnkGothITC Bk BT"/>
              </a:rPr>
              <a:t>Secretaría de Vinculación Tecnológica y Desarrollo Productivo</a:t>
            </a:r>
            <a:endParaRPr b="1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4000" y="907920"/>
            <a:ext cx="8496000" cy="5689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06080" y="129528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Franklin Gothic Demi"/>
              </a:rPr>
              <a:t>Vinculación con el sector productiv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42880" y="2117880"/>
            <a:ext cx="7989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anklin Gothic Book"/>
              </a:rPr>
              <a:t>A partir de 4 ejes de trabajo: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Inserción de profesionales en empresas. Programa Universidad-Trabajo e inserción de graduados.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Desarrollo y transferencia de conocimientos por medio de servicios (capacitación, asesoramiento, ensayo, desarrollo, investigación concertada, gestión tecnológica).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Creación de nuevas empresas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Proyectos de apropiación social.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" name="Picture 6" descr="unl-vinculacion1"/>
          <p:cNvPicPr/>
          <p:nvPr/>
        </p:nvPicPr>
        <p:blipFill>
          <a:blip r:embed="rId1"/>
          <a:stretch/>
        </p:blipFill>
        <p:spPr>
          <a:xfrm>
            <a:off x="8001000" y="333360"/>
            <a:ext cx="5778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ncubadora de Empresa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arque Tecnológic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arques Industrial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arques Industriales +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546120" y="1052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ción de Empresas: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" name="Picture 135" descr="parque1_r2_c2"/>
          <p:cNvPicPr/>
          <p:nvPr/>
        </p:nvPicPr>
        <p:blipFill>
          <a:blip r:embed="rId1"/>
          <a:srcRect l="4468" t="44472" r="11312" b="8794"/>
          <a:stretch/>
        </p:blipFill>
        <p:spPr>
          <a:xfrm>
            <a:off x="536400" y="2722680"/>
            <a:ext cx="2678400" cy="32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LOGO 2"/>
          <p:cNvPicPr/>
          <p:nvPr/>
        </p:nvPicPr>
        <p:blipFill>
          <a:blip r:embed="rId2"/>
          <a:srcRect l="0" t="0" r="0" b="14679"/>
          <a:stretch/>
        </p:blipFill>
        <p:spPr>
          <a:xfrm>
            <a:off x="539640" y="4930920"/>
            <a:ext cx="1368360" cy="1137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4071960" y="2086920"/>
            <a:ext cx="4500720" cy="402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Ideas  Negocio Pre- Incubadas</a:t>
            </a:r>
            <a:endParaRPr b="1" lang="en-US" sz="2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mpretech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lend Food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2AP Signal Conne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pifaní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Gestión Litoral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mpresas Radicadas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Laboratorio Zoovet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15 CuadroTexto"/>
          <p:cNvSpPr/>
          <p:nvPr/>
        </p:nvSpPr>
        <p:spPr>
          <a:xfrm>
            <a:off x="500040" y="15717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Parque Tecnológico 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"/>
          <p:cNvSpPr/>
          <p:nvPr/>
        </p:nvSpPr>
        <p:spPr>
          <a:xfrm>
            <a:off x="571680" y="13240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ción de Empresas: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5143680" y="2744640"/>
            <a:ext cx="3429000" cy="32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Empresas Incubadas</a:t>
            </a:r>
            <a:endParaRPr b="1" lang="en-US" sz="2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Hidratón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Protech Pharm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Incubatech S.A.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ioparx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iocosmétic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l Ce.Co.Vi,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9 Rectángulo"/>
          <p:cNvSpPr/>
          <p:nvPr/>
        </p:nvSpPr>
        <p:spPr>
          <a:xfrm>
            <a:off x="642960" y="3857760"/>
            <a:ext cx="3500280" cy="22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1" name="8 Imagen" descr="contenedorPTLC.jpg"/>
          <p:cNvPicPr/>
          <p:nvPr/>
        </p:nvPicPr>
        <p:blipFill>
          <a:blip r:embed="rId1"/>
          <a:stretch/>
        </p:blipFill>
        <p:spPr>
          <a:xfrm>
            <a:off x="714240" y="3929040"/>
            <a:ext cx="335304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2" name="10 CuadroTexto"/>
          <p:cNvSpPr/>
          <p:nvPr/>
        </p:nvSpPr>
        <p:spPr>
          <a:xfrm>
            <a:off x="500040" y="18842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Parque Tecnológico 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"/>
          <p:cNvSpPr/>
          <p:nvPr/>
        </p:nvSpPr>
        <p:spPr>
          <a:xfrm>
            <a:off x="546120" y="11095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ción de Empresas: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572000" y="2389680"/>
            <a:ext cx="4000680" cy="370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Empresas Egresadas </a:t>
            </a:r>
            <a:endParaRPr b="1" lang="en-US" sz="2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Software Santa Fe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It Media Publishing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Hidratón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seTec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Pronobis.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Overchem S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io Cisco Plant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10 Rectángulo"/>
          <p:cNvSpPr/>
          <p:nvPr/>
        </p:nvSpPr>
        <p:spPr>
          <a:xfrm>
            <a:off x="571680" y="2428920"/>
            <a:ext cx="257148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6" name="9 Imagen" descr="empresas_r2_c2.jpg"/>
          <p:cNvPicPr/>
          <p:nvPr/>
        </p:nvPicPr>
        <p:blipFill>
          <a:blip r:embed="rId1"/>
          <a:stretch/>
        </p:blipFill>
        <p:spPr>
          <a:xfrm>
            <a:off x="642960" y="2500200"/>
            <a:ext cx="2428920" cy="3635640"/>
          </a:xfrm>
          <a:prstGeom prst="rect">
            <a:avLst/>
          </a:prstGeom>
          <a:ln w="0">
            <a:noFill/>
          </a:ln>
        </p:spPr>
      </p:pic>
      <p:sp>
        <p:nvSpPr>
          <p:cNvPr id="77" name="11 CuadroTexto"/>
          <p:cNvSpPr/>
          <p:nvPr/>
        </p:nvSpPr>
        <p:spPr>
          <a:xfrm>
            <a:off x="500040" y="15987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Parque Tecnológico 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546120" y="1052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Radicación de Zelltek en el Parque Tecnológic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9" name="Picture 134" descr="zeltek"/>
          <p:cNvPicPr/>
          <p:nvPr/>
        </p:nvPicPr>
        <p:blipFill>
          <a:blip r:embed="rId1"/>
          <a:stretch/>
        </p:blipFill>
        <p:spPr>
          <a:xfrm>
            <a:off x="3635280" y="2205000"/>
            <a:ext cx="4897440" cy="381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5" descr="parque1_r2_c2"/>
          <p:cNvPicPr/>
          <p:nvPr/>
        </p:nvPicPr>
        <p:blipFill>
          <a:blip r:embed="rId2"/>
          <a:srcRect l="4468" t="44472" r="11312" b="8794"/>
          <a:stretch/>
        </p:blipFill>
        <p:spPr>
          <a:xfrm>
            <a:off x="536400" y="2205000"/>
            <a:ext cx="3098880" cy="381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8" descr="LOGO 2"/>
          <p:cNvPicPr/>
          <p:nvPr/>
        </p:nvPicPr>
        <p:blipFill>
          <a:blip r:embed="rId3"/>
          <a:srcRect l="0" t="0" r="0" b="14679"/>
          <a:stretch/>
        </p:blipFill>
        <p:spPr>
          <a:xfrm>
            <a:off x="539640" y="4930920"/>
            <a:ext cx="136836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546120" y="105264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dora de Empresas de ámbito regional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dea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8 Rectángulo"/>
          <p:cNvSpPr/>
          <p:nvPr/>
        </p:nvSpPr>
        <p:spPr>
          <a:xfrm>
            <a:off x="571680" y="4286160"/>
            <a:ext cx="2500200" cy="18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4" name="Picture 12" descr="IMG_1220"/>
          <p:cNvPicPr/>
          <p:nvPr/>
        </p:nvPicPr>
        <p:blipFill>
          <a:blip r:embed="rId1"/>
          <a:srcRect l="11842" t="15343" r="5079" b="7823"/>
          <a:stretch/>
        </p:blipFill>
        <p:spPr>
          <a:xfrm>
            <a:off x="642960" y="4376880"/>
            <a:ext cx="2378160" cy="1649160"/>
          </a:xfrm>
          <a:prstGeom prst="rect">
            <a:avLst/>
          </a:prstGeom>
          <a:ln w="6480">
            <a:solidFill>
              <a:srgbClr val="d9d9d9"/>
            </a:solidFill>
            <a:miter/>
          </a:ln>
        </p:spPr>
      </p:pic>
      <p:graphicFrame>
        <p:nvGraphicFramePr>
          <p:cNvPr id="85" name=""/>
          <p:cNvGraphicFramePr/>
          <p:nvPr/>
        </p:nvGraphicFramePr>
        <p:xfrm>
          <a:off x="3571920" y="1714680"/>
          <a:ext cx="4929120" cy="4619520"/>
        </p:xfrm>
        <a:graphic>
          <a:graphicData uri="http://schemas.openxmlformats.org/drawingml/2006/table">
            <a:tbl>
              <a:tblPr/>
              <a:tblGrid>
                <a:gridCol w="2465280"/>
                <a:gridCol w="246384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mprendimiento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oducto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percol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las Vinílicas y Adhesivos de contacto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screen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t para la detección de contaminantes en la leche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nos Gráfico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intas Inkjet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aboratorios S+V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ótesis para Bovino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sentiel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remas depitaloria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aes. Equipo Multifunción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quipos 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jarg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abrica de remaches e aluminio macizos y semi hueco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ioaroma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ioaromatizantes a través de esencias naturale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Franklin Gothic Book"/>
              </a:rPr>
              <a:t>Convenio: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Prefactibilidad de implantación de un Área Industrial en el distrito de Santo Tomé - Prov. de Santa F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Universidad Nacional del Litoral y la Municipalidad de Santo Tom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Objetivos del estudio, Primera Fase (2000 - 2001):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Identificar la localización óptima para la radicación de un área industrial a partir de características ambientales, económicas, normativas, sociales y urbano-regionales. Con herramientas de evaluación multi criteri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8:17:02Z</dcterms:created>
  <dc:creator>Vinculacion</dc:creator>
  <dc:description/>
  <dc:language>en-US</dc:language>
  <cp:lastModifiedBy>Daniel Scacchi</cp:lastModifiedBy>
  <dcterms:modified xsi:type="dcterms:W3CDTF">2008-05-29T13:20:02Z</dcterms:modified>
  <cp:revision>433</cp:revision>
  <dc:subject/>
  <dc:title>Diapositiva 1</dc:title>
</cp:coreProperties>
</file>